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D2F-E29B-408F-B02E-0336B3A2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170-08AB-48FB-85B7-74F5D59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E24-BD3E-4B94-BB60-E34A5EF9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63D-A1A1-42F0-9DEC-95224FCA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5F6-E3B7-430C-B0F9-69BFB60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3C5-7DE3-4CF5-9FF4-BA075EE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721-9A0B-4399-90E1-BFB0C3B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3B5-3F60-450A-BD24-20D6033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149-72E1-48B7-95F0-7E38674E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6DD-F6F0-48F3-A9E8-64314B87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5DA-A349-443F-841C-866AD2F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16F-A863-49B2-8A1F-572DE44C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AEA-5B4B-4FEB-A9C4-5EE8B031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5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ко израчунати ННТ за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во дефинисати колико пута је наш пацијент мање или више склон исходу који се помиње у студ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ш пацијент поред дијабетеса узима и изониазид па је око два пута више склон да развије неуропат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Сада ННТ треба поделити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: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у нашем примеру то 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4.7/2 = 7.3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0400" y="2491920"/>
            <a:ext cx="80964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ДОКАЗИ О ТРЕТМАН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И ПРИМЕНЉИВ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клин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пацијенти по принципу случајног избора сврстани у експерименталну и контролну груп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и пацијенти који су ушли у студију узети у обзир приликом извођења закључ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 да ли су анализирани у групама у којима су били на почет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губитак највише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студија била двоструко сле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третиране на исти начин изузев третмана који се испит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групе биле сличне на почетку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релатив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ње апсолутног р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ој болесника који треба да примају нови лек да би се код једног од њих спречио негативан исход  - 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Number Needed to Tre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ННТ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84280"/>
          <a:ext cx="8785440" cy="532116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1584360"/>
                <a:gridCol w="1371600"/>
                <a:gridCol w="1371600"/>
                <a:gridCol w="1649520"/>
              </a:tblGrid>
              <a:tr h="1289160">
                <a:tc row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неуропа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релатив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псолутног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болесника које треба лечити да би се спречио 1 негативан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ч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талост у контрол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зиван инсулински третма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. груп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/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-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T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A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тудиј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.6%-2.8%)/9.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%-2.8% = 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.8% = 1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%-28%)/96% =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-28% = 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68% = 1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тетички случај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0096%-0.00028%)/0.00096% = 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%-0.00028% = 0.000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.00068% = 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741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ољ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рвен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ход који се спреч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ајање пра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бетес инсулин-завис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нтензиван инсулински 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уропат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кутни инфаркт миокар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ептокиназа и аспи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рудница са еклампсиј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.в.МгСО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новне конвул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ритисак 90-109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ијастолни П &gt; 115 ммХ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Антихипертенз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мрт, шлог или инфаркт ср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израчунати 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 (confidence limits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израчунава тако што се узима реципрочна вреднос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L-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RR = 6.8%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NNT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100/3.4%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/10.2%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29.4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0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клинич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 израчун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 у студији дају као резултат сам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s ratio (OR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следеће форм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NT =</a:t>
            </a:r>
            <a:r>
              <a:rPr b="0" lang="en-US" sz="3200" spc="-1" strike="noStrike">
                <a:solidFill>
                  <a:srgbClr val="000000"/>
                </a:solidFill>
                <a:latin typeface="YUDutch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-[C x (1-OR)]}/[(1-C) x C x (1-OR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честалост појаве која се л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валидне и значајне студије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Да ли је наш пацијент исувише различит од оних у студиј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Колика ће бити корист од терапије за нашег пацијент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ће нови третман и његове последице задовољити вредности и жеље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56:22Z</dcterms:modified>
  <cp:revision>58</cp:revision>
  <dc:subject/>
  <dc:title>Slide 1</dc:title>
</cp:coreProperties>
</file>